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CEE-744B-48BD-B343-FB2ACD77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46E-35B2-40CC-B519-7EAB85C1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848-5495-41B2-B8AF-E4D238FF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961-A2B0-40E1-BC75-051C0C1A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54F-F870-43D9-B5F4-B8A908B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954-23E5-40F6-B447-A5AA9D68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FC7-F149-405D-9BB8-BA5B59E8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9B0-367C-4DDB-B7C1-05D29C5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4FD-AE92-4E28-894C-1350F58C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481-383E-44CE-BBEF-60C7BC6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BB6-F732-4507-ABFD-5B9427A5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30D-CEBC-4231-8113-3A76BC05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4E58-596E-4354-90FD-8F8B9AEA2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 –Day Inva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drew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e of D-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arted June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nded June 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the war a two front w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t hard for Ger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fend it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939 Vess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213 W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126 Transport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36 Ancillary 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64 Merchant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soldi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826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654 d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784 woun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00 para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55:16Z</dcterms:created>
  <dc:creator>22003</dc:creator>
  <dc:description/>
  <dc:language>en-US</dc:language>
  <cp:lastModifiedBy>22003</cp:lastModifiedBy>
  <dcterms:modified xsi:type="dcterms:W3CDTF">2009-12-17T14:58:01Z</dcterms:modified>
  <cp:revision>5</cp:revision>
  <dc:subject/>
  <dc:title>D –Day Invasion </dc:title>
</cp:coreProperties>
</file>